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18B-B413-4140-9B06-D0CB21E8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73F-55A3-4E57-ACF9-59ABA67B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F12-BC69-4DCB-B38A-03FC8880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0CF-0998-42CE-BB0A-8728280E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4E6C-0006-4E3C-A663-A87FE7E5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F67B-0A7F-4B1D-96D6-BB22392B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5B75-153F-406D-A746-B6F32258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2774-F16C-46D3-96A5-E44C8FB4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16D8-63E5-4D2C-B2DA-B7633D3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DA8B-6E22-4659-A9B0-FF7B54A4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C476-ACAE-4F1D-95EA-29EA896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052-2139-4DC1-B13F-EC28F858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7887-EFF5-4EEB-ACFB-4901FF4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8C7-3344-447F-80FC-C3BD4754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21E0-1484-4B54-AD18-16A5740E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76B8-13EB-4709-AF8C-7607724C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4759-A685-4D3E-A898-57A4896E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668-C539-4B00-9593-28471F0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895-8A4C-4B5A-A710-AFA5194D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2F4-F81F-479F-9CF2-92806FFA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D99-7EFE-469D-BF23-473A48E6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39A-018A-4605-A4FD-30C2F0A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02F-DABE-4C6F-B7D0-307FD8A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605-9D95-4185-85A5-B423AB0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9EA9-FB8E-486C-AA8C-A92D4EDEB3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78AD-13DA-4984-9825-C71C94B0D17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0"/>
            <a:ext cx="6840720" cy="79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 suspiro del mo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Romance del Rey Chico que perdió a Granad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año de cuatroci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venta y dos corr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rey Chico de Gran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dió el reino que ten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alióse de la ciu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 lunes a medio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ercado de caball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flor de la mor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madre lleva consi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la tiene compañía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ese Genil aba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l rey Chico se sal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s estribos se han moj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ran de gran val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63640" y="0"/>
            <a:ext cx="4364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 mostrar más su do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en el corazón 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aquesa áspera Alpujar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ra su jornada y v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una cuesta muy al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Granada se parecía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vió a mirar a Gran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Granada la famos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i consuelo y alegrí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to Albaic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i rica Alcaicer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mi Alhambra y Alija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mezquita de valía!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mis baños, huertas y rí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nde olgar me solía!;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0"/>
            <a:ext cx="560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¿quién os ha de mí apart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jamás yo os vería?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hora te estoy miran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de lejos, ciudad m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s presto no te veré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ues ya de ti me part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¡Oh rueda de la fortun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oco es quien en ti f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ayer era rey famo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hoy no tengo cosa mía!”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empre el triste coraz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aba su cobard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estas palabras dic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desmayo se ca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ba su madre dela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8000" y="189000"/>
            <a:ext cx="42530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otra caballer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iendo la gente parad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eina se detení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causa pregunt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orque ella no lo sab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óle un moro viej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 honesta cortes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u hijo mira a Gr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la pena le afligí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spondido había la madr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sta manera dec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 es que como muj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lore con grande agon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que como caball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estado no defendía”.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20:44Z</dcterms:created>
  <dc:creator> </dc:creator>
  <dc:description/>
  <dc:language>en-US</dc:language>
  <cp:lastModifiedBy>-</cp:lastModifiedBy>
  <dcterms:modified xsi:type="dcterms:W3CDTF">2008-10-06T23:30:30Z</dcterms:modified>
  <cp:revision>4</cp:revision>
  <dc:subject/>
  <dc:title>Diapositiva 1</dc:title>
</cp:coreProperties>
</file>